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A55A-D971-4BCF-B452-69D46BFFB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5ABF-FD22-4C21-A0E2-866594F15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14F3-7CB0-4637-BC26-730D6E543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8771-687E-451D-A02F-C745C70FD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CF8BD-F30C-44F4-8E12-5EE2C8EF5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96605-9415-4B45-A758-B7F1852EB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3B44E-7578-4EDC-B454-7524BB531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72273-0EAF-48C3-A798-2B51A4D13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B4FF7-C993-47F3-AE77-E4D4DEC27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F87B9-24CF-4812-AC7F-A302951E9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A4C47-1E49-4481-9415-69F071495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7938-665C-4160-A2C4-649D8795E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ED45A-47E6-469A-BE79-82683768F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E833D-1FE9-4EE0-AD3F-2D063EEFC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DE855-987E-4FD4-8989-85D2FE1E8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930F3-D8C4-45A1-83C9-E7719F7EF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111DE-69BC-4430-8B89-F7F07CFCD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0767-7AF8-4258-BBA7-77CACCFE1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534D-AE4B-4BB3-9986-850D694FA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29BC-FD4F-4123-8B66-F8337690D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1F83-347A-4E47-B72F-F871A631B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83D8-C53C-4752-A5F5-9410C197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72D2-4482-4B60-9E25-92B9DA132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AD7A-F187-42B2-BA41-02BB521BA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C2BF3-CD70-4CBC-8540-CADF58F02491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40349-FE34-42D1-8712-1215A9AFAB8C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cc"/>
                </a:solidFill>
                <a:latin typeface="Verdana"/>
              </a:rPr>
              <a:t>В</a:t>
            </a:r>
            <a:r>
              <a:rPr b="1" lang="tt-RU" sz="3500" spc="-1" strike="noStrike">
                <a:solidFill>
                  <a:srgbClr val="0000cc"/>
                </a:solidFill>
                <a:latin typeface="Verdana"/>
              </a:rPr>
              <a:t>неклассное мероприятие,</a:t>
            </a:r>
            <a:br>
              <a:rPr sz="3500"/>
            </a:br>
            <a:r>
              <a:rPr b="1" lang="tt-RU" sz="3500" spc="-1" strike="noStrike">
                <a:solidFill>
                  <a:srgbClr val="0000cc"/>
                </a:solidFill>
                <a:latin typeface="Verdana"/>
              </a:rPr>
              <a:t> посвященное </a:t>
            </a:r>
            <a:r>
              <a:rPr b="1" lang="ru-RU" sz="3500" spc="-1" strike="noStrike">
                <a:solidFill>
                  <a:srgbClr val="0000cc"/>
                </a:solidFill>
                <a:latin typeface="Verdana"/>
              </a:rPr>
              <a:t>государственным и народным праздникам России и Татарстана</a:t>
            </a:r>
            <a:r>
              <a:rPr b="1" lang="ru-RU" sz="52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5219640" y="5039280"/>
            <a:ext cx="3468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000000"/>
                </a:solidFill>
                <a:latin typeface="Times New Roman"/>
              </a:rPr>
              <a:t>Распутина Н.Г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000000"/>
                </a:solidFill>
                <a:latin typeface="Times New Roman"/>
              </a:rPr>
              <a:t>классный руководитель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000000"/>
                </a:solidFill>
                <a:latin typeface="Times New Roman"/>
              </a:rPr>
              <a:t>11Б класса</a:t>
            </a:r>
            <a:r>
              <a:rPr b="0" lang="tt-RU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4140360" y="4941720"/>
            <a:ext cx="500364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43000" y="-720"/>
            <a:ext cx="508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ffffff"/>
                </a:solidFill>
                <a:latin typeface="Verdana"/>
              </a:rPr>
              <a:t>День народного единства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80000" cy="68580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5580000" y="4221000"/>
            <a:ext cx="3564000" cy="26370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5580000" y="0"/>
            <a:ext cx="356400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5580000" y="2492280"/>
            <a:ext cx="4000680" cy="28861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-108000" y="2421000"/>
            <a:ext cx="3216240" cy="27813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2484360" y="0"/>
            <a:ext cx="4229280" cy="45007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3132000" y="4129200"/>
            <a:ext cx="2448000" cy="27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216360" y="6021000"/>
            <a:ext cx="476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Старый новый год</a:t>
            </a: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247320" y="6130080"/>
            <a:ext cx="496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200" spc="-1" strike="noStrike">
                <a:solidFill>
                  <a:srgbClr val="ffffff"/>
                </a:solidFill>
                <a:latin typeface="Times New Roman"/>
              </a:rPr>
              <a:t>День Святого Валентина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4067280" y="115200"/>
            <a:ext cx="640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ffffff"/>
                </a:solidFill>
                <a:latin typeface="Verdana"/>
              </a:rPr>
              <a:t>Всероссийский день семьи,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tt-RU" sz="2400" spc="-1" strike="noStrike">
                <a:solidFill>
                  <a:srgbClr val="ffffff"/>
                </a:solidFill>
                <a:latin typeface="Verdana"/>
              </a:rPr>
              <a:t>любви и верности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5246640" y="187560"/>
            <a:ext cx="38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ffffff"/>
                </a:solidFill>
                <a:latin typeface="Verdana"/>
              </a:rPr>
              <a:t>Международный день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ffffff"/>
                </a:solidFill>
                <a:latin typeface="Verdana"/>
              </a:rPr>
              <a:t>пожилых людей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335520" y="143280"/>
            <a:ext cx="35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ffffff"/>
                </a:solidFill>
                <a:latin typeface="Verdana"/>
              </a:rPr>
              <a:t>День матери России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567720" y="209520"/>
            <a:ext cx="7803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2800" spc="-1" strike="noStrike">
                <a:solidFill>
                  <a:srgbClr val="ffff00"/>
                </a:solidFill>
                <a:latin typeface="Verdana"/>
              </a:rPr>
              <a:t>Праздник — торжественный день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2800" spc="-1" strike="noStrike">
                <a:solidFill>
                  <a:srgbClr val="ffff00"/>
                </a:solidFill>
                <a:latin typeface="Verdana"/>
              </a:rPr>
              <a:t>в честь кого-нибудь или чего-нибудь,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2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i="1" lang="tt-RU" sz="2800" spc="-1" strike="noStrike">
                <a:solidFill>
                  <a:srgbClr val="ffff00"/>
                </a:solidFill>
                <a:latin typeface="Verdana"/>
              </a:rPr>
              <a:t>сопровождающийся отдыхом, застольями,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2800" spc="-1" strike="noStrike">
                <a:solidFill>
                  <a:srgbClr val="ffff00"/>
                </a:solidFill>
                <a:latin typeface="Verdana"/>
              </a:rPr>
              <a:t>развлекательными мероприятиями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1" name=""/>
          <p:cNvSpPr/>
          <p:nvPr/>
        </p:nvSpPr>
        <p:spPr>
          <a:xfrm>
            <a:off x="2898720" y="6021000"/>
            <a:ext cx="375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ffffff"/>
                </a:solidFill>
                <a:latin typeface="Verdana"/>
              </a:rPr>
              <a:t>Праздник Пасха</a:t>
            </a:r>
            <a:r>
              <a:rPr b="0" lang="ru-RU" sz="3600" spc="-1" strike="noStrike">
                <a:solidFill>
                  <a:srgbClr val="0000cc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619280" y="333360"/>
            <a:ext cx="7128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cc"/>
                </a:solidFill>
                <a:latin typeface="Verdana"/>
              </a:rPr>
              <a:t>Праздники - неизменные спутники народной жизни.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cc"/>
                </a:solidFill>
                <a:latin typeface="Verdana"/>
              </a:rPr>
              <a:t>Праздники для нас - это возможность доставить радость близким!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cc"/>
                </a:solidFill>
                <a:latin typeface="Verdana"/>
              </a:rPr>
              <a:t>Праздник - не календарное понятие. Праздник происходит там, где его чувствуют, где его ждут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3924360" y="5373720"/>
            <a:ext cx="46814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66"/>
                </a:solidFill>
                <a:latin typeface="Times New Roman"/>
              </a:rPr>
              <a:t>С праздником!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Адреса использованных   материалов: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http://images.yandex.ru/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1258920" y="2997360"/>
            <a:ext cx="575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4643280" y="583524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600" spc="-1" strike="noStrike">
                <a:solidFill>
                  <a:srgbClr val="0000d6"/>
                </a:solidFill>
                <a:latin typeface="Verdana"/>
              </a:rPr>
              <a:t>Новый год</a:t>
            </a:r>
            <a:r>
              <a:rPr b="1" lang="ru-RU" sz="3600" spc="-1" strike="noStrike">
                <a:solidFill>
                  <a:srgbClr val="0000d6"/>
                </a:solidFill>
                <a:latin typeface="Verdana"/>
              </a:rPr>
              <a:t>.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90760" y="267840"/>
            <a:ext cx="52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ffffff"/>
                </a:solidFill>
                <a:latin typeface="Verdana"/>
              </a:rPr>
              <a:t>Рождество Христово</a:t>
            </a: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7236000" y="4724280"/>
            <a:ext cx="19080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240840" y="-10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6699"/>
                </a:solidFill>
                <a:latin typeface="Verdana"/>
              </a:rPr>
              <a:t>Международный женский день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75840" y="143280"/>
            <a:ext cx="419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ffffff"/>
                </a:solidFill>
                <a:latin typeface="Verdana"/>
              </a:rPr>
              <a:t>Праздник весны и труда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6013800" y="6089040"/>
            <a:ext cx="272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6699"/>
                </a:solidFill>
                <a:latin typeface="Verdana"/>
              </a:rPr>
              <a:t>День Победы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15:31:23Z</dcterms:created>
  <dc:creator>Пользователь</dc:creator>
  <dc:description/>
  <dc:language>en-US</dc:language>
  <cp:lastModifiedBy>Пользователь</cp:lastModifiedBy>
  <dcterms:modified xsi:type="dcterms:W3CDTF">2011-05-03T12:59:39Z</dcterms:modified>
  <cp:revision>4</cp:revision>
  <dc:subject/>
  <dc:title>Слайд 1</dc:title>
</cp:coreProperties>
</file>